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B69-A49B-4163-A655-0FA32C82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CA7-A73F-4835-A7C8-E78BED2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F10-1B48-453D-8FB5-CE77497B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ED6-EB00-4734-9672-854B43B1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E93-9C49-4E54-BE5F-D2FD9192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94D-3E16-4BE3-A5C6-CB4D913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571-938D-413E-B5A2-43C1361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DF9-93A8-41B4-8679-D38604D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F7E-DA34-43B6-AE0D-C18C52B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864-919A-4E24-B905-7BBE05F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07B-17FB-4289-B732-18BB019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EB1-523C-417C-A0E7-5E6A175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066-C63D-4F58-B94F-5BBA4749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overall understanding of Shifty, focusing on representations of Brit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What techniques does the poster use to sell the film to its target audience?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What clues are there that tell us about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he genre and style of the film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he intended target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196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“The Making of Shift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groups discuss (refer to your glossary)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1: Britishnes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2: Narrativ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3: Ideological them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4: Technical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30:02Z</dcterms:created>
  <dc:creator>Shereen</dc:creator>
  <dc:description/>
  <dc:language>en-US</dc:language>
  <cp:lastModifiedBy>Shereen</cp:lastModifiedBy>
  <dcterms:modified xsi:type="dcterms:W3CDTF">2009-11-03T13:49:00Z</dcterms:modified>
  <cp:revision>5</cp:revision>
  <dc:subject/>
  <dc:title>Learning Objective Build overall understanding of Shifty, focusing on representations of Britishness</dc:title>
</cp:coreProperties>
</file>